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865-9078-4C03-823B-0E942CD4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DCD-F397-4693-8965-2C9B6E0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A7E-E3C4-40FA-9286-072C1207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F0E-0D20-4BDF-B947-77C20DE8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7527-7870-4B08-AF7E-8E8CE3A2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3317-A152-4D2B-AC52-3FACB40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44A9-CCB9-4998-AB3F-3CA7112F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B89-33CB-4F28-A64B-17C6B8E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F042-BA98-45E5-88FD-95EA6898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E3E5-4482-4C62-A953-17426AC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9D6A-AF5D-47EF-9106-B18C6A3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77A-C0F8-4339-8658-5309AEB5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DC6-6C56-47AD-97AA-CB2596A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03E1-5287-4AD0-ACD8-AF80D38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8B1-DD4E-48EC-ADD3-2A44872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3DF-3535-4F91-ACD8-4D20B443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EC8B-7812-4F88-B69E-B7EC133D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E97C-1D95-4B36-8617-B773229F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6E97-78B3-485E-A82B-C9E6840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5AEF-C461-45F1-AE02-2A90CED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04AA-DC17-4E63-9307-3651550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715F-6564-4BBE-B89F-385D611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B7D-E1A1-4223-B0A3-672B8401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439D-C3B1-4995-9EA7-75EB5DA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6B9C-697F-4481-AF25-707F352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E2A8-DBE6-468C-BDB0-69EBF1BB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4B22-3C4F-42E8-A845-D27E1CEC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B50E-B5BE-4374-80A4-E2FB9A78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3BAB-A492-4F62-89BB-1058844F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745D-D022-489D-BA04-9516F61C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DA97-F326-4307-9128-57BAAEF4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15FD-12A2-459B-AA86-E75A8AA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23B8-14AC-49A9-A71B-CBE6A86E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031-E501-4D29-8476-833AE78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06E3-3ECD-402E-95EA-F3835890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E2D9-0AC0-45A4-B5DD-AC583686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3979-B64D-4C61-9C98-2671F979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BE20-AB02-4BA8-8F8B-4A9C66D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F9E6-5396-4F6E-B92C-13A4EF5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EC60-F5BC-4563-9BEA-029A2BD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797C-C287-4AB8-BA05-5C09D357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2804-230F-42D6-8C03-960480FF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A53E-A646-422C-B0C9-3D910830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E9AE-E0F0-4D50-B389-56E777CA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916-3966-451E-8228-22EA0F8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3209-6060-45E8-81E4-FA55EDE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7C72-7398-44DE-88DE-CF2CF34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5360A-A28E-4E29-A622-5692DC3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2764-508F-4A7D-B88D-7930560E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1F1C-91CF-4785-AA00-02575D8F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0235-F12E-4746-A33A-8213DCA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0320-0A10-4CDB-A121-CC6E99B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7B9D-64D8-4894-8FC5-B3BE880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CB98-C7D6-4D97-AD4F-EBBCCEC9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3E73-2416-4C01-AAC9-BD0BD128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069-00F9-4E11-8DB0-2EE4D2D7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767A-78BC-4A40-B383-1A34F3DE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6E9FF-C043-4EAB-A69E-68336832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1F5DF-BCB6-46D4-AEB3-AD3B77F3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4B3E-98D5-478B-B424-8800A8D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7CF3-8BFB-4FC4-823E-7ECCF9B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6867-8CDA-4EE0-9DC2-ACEBCFD5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FA6D-2E39-4EF0-BE9D-C94CC2B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7AF4-26E7-4500-A28C-4B4A705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9A83-856B-4055-A434-3AED00F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4E5A-972C-4D30-98AA-41E8B386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4CB-6C52-4C87-A891-09A854F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49D5-ACB2-400C-8457-1BABDDD1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75E5-AC46-4C35-B8AB-796ABF02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2A2B-46C7-41E2-BBC3-AC79DE62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CDBC5-F4FC-4334-80E8-830042A0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4E2C-A934-4578-B145-5317AA0B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2E57-260A-4FC3-82F0-FBFBEBB9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A67CC-A025-491A-97F4-9DCD99D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2E03-9111-4FF2-903F-EC401C10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7FF3-1480-4019-A149-1E4D448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56748-808E-43AE-9BB9-014999B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E2A-7E11-4C50-BEC5-540C141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C2CE-A44C-4878-A389-C191AE8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A4EE8-0962-41D5-A8FC-F9FC182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1E87-AC3A-4333-9540-29B3A91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543B-D294-4FCD-8A1E-993C0380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A79B-6671-43C4-95B6-0FED165B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DF1-8ADC-4D11-B2C3-EFE4F4B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A41-BECD-4629-B2B6-BC57CC2C15A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F7A7-6AA1-4B68-8A8E-E441BF63E68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C31-DF24-46BB-A37F-A49F440EF1F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9AE-2B13-4FBA-B285-16C5C477433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ECB-553F-48DC-90DA-CD3D4C52BF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976-E49E-4762-9718-E034EAFFE63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18A-E9A6-43A9-AB48-79EDB029D7E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08240"/>
            <a:ext cx="80899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te llam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De dónde er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está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escribe ____ en españo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tu número de telefono o celula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ndo es tu cumpleañ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Qué hora 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A qué hora es tu clase de _____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dice _____ en españo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A  qué hora es almuerzo para t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el nombre de ella/é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llama de tu gato o perro o animale domestic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tu color favorit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la fecha de ho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el día de ho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5:02:28Z</dcterms:created>
  <dc:creator>Maple Lake</dc:creator>
  <dc:description/>
  <dc:language>en-US</dc:language>
  <cp:lastModifiedBy> </cp:lastModifiedBy>
  <dcterms:modified xsi:type="dcterms:W3CDTF">2009-09-30T15:07:59Z</dcterms:modified>
  <cp:revision>5</cp:revision>
  <dc:subject/>
  <dc:title>Repaso las preguntas (entre capítulos 2/3) </dc:title>
</cp:coreProperties>
</file>